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175-87A5-4310-9AB3-97E37FB4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E36-C8CB-47DA-AC6E-68F6952F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471-7487-498C-8AF6-36B3315D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8F2-926A-4E37-A7C6-F5B2938D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F4C-06D2-451E-89C1-8F0E0E25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98C4-DA0E-4C52-92DA-72AAE21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7DB9-1BC5-4A5E-A8F7-7514F39B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D2F4-1A85-4DC8-85E6-E51AAD9A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303F-6615-4AF3-90FA-01B1AE0B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AA7B-FF2E-4078-86A4-ABF0D95D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3E71-4F5A-407B-8C62-D1FC76EB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42C-4F0D-4CC3-A723-F26A591E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EFD4-32B8-45F2-A959-506437B6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A973-EE0A-472C-A089-FDB36CBD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2C08-CE31-4567-A2D2-0998B3AE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9544-BF33-46BF-8782-35FACD9B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72B1-05EE-4B83-84BD-9842897D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4B19B-0AF2-47E4-9346-50CEE8BE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73697-76DB-45F9-828E-1957550C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DF9D9-E8DF-4BF0-96B9-BF3459B1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FE0A3-D338-40FF-BE1A-FA83EC8F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B68E1-33D3-42AB-82AA-67D1FAF0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171-2E34-4FFD-AC0D-1C5F2C65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1E351-F8EB-4C96-907C-290907DB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A459-4E85-490C-99D5-D0D69324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28DCF-2EEE-4DA4-A17B-950CA42E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4052-32E2-402E-990A-8B737F73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E58EF-4211-4F86-AF6F-808B4249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6FE5-799E-46E3-8177-F981E9FE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60876-0A60-4B2B-9348-8341BDDE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49B28-5AE7-4785-B0B5-A127C44D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5420F-09F8-4473-B81B-C58E9C33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4864-29F9-4F01-80F0-7B3A1B86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28A-45DB-41A2-9EB8-7ED635DC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EA7E-1DD6-4ABF-994E-8401E46B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53782-7F70-4C33-A3DF-858CD5E0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CFC3-7CF6-4475-950C-3803A393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B412A-9ED1-4B37-A5E8-F9E2BA1B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7B2E-16F5-4AF0-B30E-973B1705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005B0-3967-40F7-8F37-020684A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60B4F-E21A-4646-8883-BCF969D0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5AC38-1AAA-41A2-84B2-BA97DCDB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75FB-75AB-4F11-AB97-660B2826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33AC-BE5F-4BFE-B087-BFDDB335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B45-4412-4AF7-8DE3-54724E8D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8012E-BEB0-4789-9609-7409B988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4F0B9-A5EE-48BA-A504-40F9D5C3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13BDF-E7DB-4E12-99F4-142A4BFB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9593D-9F3E-479A-B6F2-A6BE4151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34E3D-D94F-4589-81D3-6C4DE807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E5F1-115A-4419-BEBE-1F21DCB9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37FF0-D0DA-454A-9142-3F2CB83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7641B-4D39-4634-A8F9-D6B3F253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2B2A8-E918-42FB-8A5F-E97A5159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3B6EB-58B2-4398-898B-627D4F31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D933-66AD-4D17-BEF9-D0A85339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B6E3E-3131-49E7-9BAA-EFF6F498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16D2-BF43-40FF-8DAE-4AF99482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FF4DC-C6CA-4800-8A1F-4C8832AE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0BF61-5975-4BCD-8E50-88698B12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F9C9A-1558-406F-99A8-5F088524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497FB-90AF-464D-952A-640E2DE4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C3098-6344-4D70-8DC5-03466E5D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BF553-DD40-42EA-B7F5-9BD387B7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01579-2693-4BA0-82DC-95DD31B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847D2-79D6-4F6D-88C3-90AADF12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AAB-C5DC-40F9-B58B-8BAD4B6D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7D5F9-CA00-454D-898D-9E61270B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90644-CB31-4B85-ACFC-1BCFA602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A2F0A-47C1-479D-AC2F-F89ADAEB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E984F-13A5-4A2B-ABD9-0CFC40C5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FF56F-F4B3-4796-8EA6-80452313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CE17F-90E3-4DC9-9C60-BEB89846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9055D-8A80-471D-8D19-627238AE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C68CA-C7DC-45FE-AA60-CF172D4C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94FAA-1BBC-4F1A-A91C-B30B9002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45AAF-4572-41B2-92F7-6A7DA54D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8C5-DDEB-48B9-BC20-DBED879C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CA5D-2ABA-4137-B62E-6F920F0A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3B6BF-5BFB-418B-91A8-324D3D7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4EC3B-F48B-4C1E-9E63-F5735B47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8A0B4-7FEC-4941-B463-E3692EDA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327D4-1B43-4779-849D-54AAA7DB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DD8-0C90-4FC0-BA27-FDF5B2AD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1C3813-41CE-45F1-A1C5-03070DEB079F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C8036C-43D4-461D-8738-3329230B8601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A30F95-18B6-45BC-8074-917F9BB057C3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16D18C-1D1A-4443-8A37-E67E7B833977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3033E2-2933-41FE-8E5A-CDA382E4C6A3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BEE029-6695-4498-9ED7-B5882C23E70D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0DA4F4-3276-4AC6-B147-A39F03A6D513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420840" y="512640"/>
            <a:ext cx="8437320" cy="36514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2"/>
          <p:cNvSpPr/>
          <p:nvPr/>
        </p:nvSpPr>
        <p:spPr>
          <a:xfrm>
            <a:off x="107172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Picture 6" descr="https://nz1.ru/wp-content/uploads/posts/2016-08/medium/1472293406_30-interesnyh-faktov-o-kurenii-2.jpg"/>
          <p:cNvPicPr/>
          <p:nvPr/>
        </p:nvPicPr>
        <p:blipFill>
          <a:blip r:embed="rId2"/>
          <a:stretch/>
        </p:blipFill>
        <p:spPr>
          <a:xfrm>
            <a:off x="3419640" y="4221000"/>
            <a:ext cx="2790720" cy="1970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3"/>
          <p:cNvSpPr/>
          <p:nvPr/>
        </p:nvSpPr>
        <p:spPr>
          <a:xfrm>
            <a:off x="468360" y="620640"/>
            <a:ext cx="86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543466"/>
                </a:solidFill>
                <a:latin typeface="Arial Narrow"/>
              </a:rPr>
              <a:t>Самое пагубное воздействие оказывает курение на детский организм. Курящие ученики отстают в учебе, становятся рассеянными, ленивыми, грубы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543466"/>
                </a:solidFill>
                <a:latin typeface="Arial Narrow"/>
              </a:rPr>
              <a:t>У них ухудшается память, зрение, умственная работоспособность. Они отстают в развитии от своих сверст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6" descr="https://sun9-23.userapi.com/impg/j3wGIBVozZpQpIb99dpevQxdIJH1di0xCIBL2w/cPtJNK-AFVk.jpg?size=1024x677&amp;quality=96&amp;sign=c8af771d341419cff8b1f94696ac135e&amp;type=album"/>
          <p:cNvPicPr/>
          <p:nvPr/>
        </p:nvPicPr>
        <p:blipFill>
          <a:blip r:embed="rId1"/>
          <a:stretch/>
        </p:blipFill>
        <p:spPr>
          <a:xfrm>
            <a:off x="1619280" y="3429000"/>
            <a:ext cx="3921120" cy="2592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174600"/>
            <a:ext cx="82296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0" y="285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43466"/>
                </a:solidFill>
                <a:latin typeface="Tahoma"/>
              </a:rPr>
              <a:t>По данным Всемирной Организации Здравоохранени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43466"/>
                </a:solidFill>
                <a:latin typeface="Tahoma"/>
              </a:rPr>
              <a:t>ЕЖЕГОДНО  ОТ КУРЕНИЯ УМИРАЮ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 algn="ctr">
              <a:lnSpc>
                <a:spcPct val="100000"/>
              </a:lnSpc>
              <a:spcBef>
                <a:spcPts val="20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3 миллиона человек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1"/>
          <a:stretch/>
        </p:blipFill>
        <p:spPr>
          <a:xfrm>
            <a:off x="-122400" y="-36360"/>
            <a:ext cx="9522000" cy="163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2428920" y="1428840"/>
            <a:ext cx="4214880" cy="40719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0" y="5286240"/>
            <a:ext cx="93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Никогда  не  курите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2"/>
          <p:cNvSpPr/>
          <p:nvPr/>
        </p:nvSpPr>
        <p:spPr>
          <a:xfrm>
            <a:off x="3857760" y="1428840"/>
            <a:ext cx="4829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9680">
              <a:spcBef>
                <a:spcPts val="799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1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997760" cy="2219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6"/>
          <p:cNvSpPr/>
          <p:nvPr/>
        </p:nvSpPr>
        <p:spPr>
          <a:xfrm>
            <a:off x="4067280" y="400536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Россию табак был завезён англичан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 немцами в начале 17 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30240" y="268200"/>
            <a:ext cx="9399600" cy="63086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"/>
          <p:cNvSpPr/>
          <p:nvPr/>
        </p:nvSpPr>
        <p:spPr>
          <a:xfrm>
            <a:off x="457200" y="6143760"/>
            <a:ext cx="8229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457200" y="174600"/>
            <a:ext cx="82296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4429080" y="571680"/>
            <a:ext cx="4429080" cy="57862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142920" y="642960"/>
            <a:ext cx="4325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43466"/>
                </a:solidFill>
                <a:latin typeface="Times New Roman"/>
              </a:rPr>
              <a:t>С приходом к власти Петра </a:t>
            </a:r>
            <a:r>
              <a:rPr b="1" lang="en-US" sz="3200" spc="-1" strike="noStrike">
                <a:solidFill>
                  <a:srgbClr val="543466"/>
                </a:solidFill>
                <a:latin typeface="Book Antiqua"/>
              </a:rPr>
              <a:t>I</a:t>
            </a:r>
            <a:r>
              <a:rPr b="1" lang="ru-RU" sz="3200" spc="-1" strike="noStrike">
                <a:solidFill>
                  <a:srgbClr val="543466"/>
                </a:solidFill>
                <a:latin typeface="Times New Roman"/>
              </a:rPr>
              <a:t> был отменён запрет на курение. Люди постепенно пристрастились к курению. Произошло это потому, что в состав табака входят вещества, способные вызвать зависимость от не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"/>
          <p:cNvPicPr/>
          <p:nvPr/>
        </p:nvPicPr>
        <p:blipFill>
          <a:blip r:embed="rId1"/>
          <a:stretch/>
        </p:blipFill>
        <p:spPr>
          <a:xfrm>
            <a:off x="414360" y="1206360"/>
            <a:ext cx="8265960" cy="15670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"/>
          <p:cNvSpPr/>
          <p:nvPr/>
        </p:nvSpPr>
        <p:spPr>
          <a:xfrm>
            <a:off x="755640" y="2852640"/>
            <a:ext cx="7777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533ea9"/>
                </a:solidFill>
                <a:latin typeface="Arial"/>
              </a:rPr>
              <a:t>В целях снижения вредного воздействия табачного дыма запрещается курение табака на рабочих местах, в городском и пригородном транспорте, на воздушном транспорте при продолжительности полета менее трех часов, в закрытых спортивных сооружениях, организациях здравоохранения, организациях культуры, на территориях и в помещениях образовательных организаций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324000" y="33336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 ОГРАНИЧЕНИИ КУРЕНИЯ ТАБАК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457200" y="174600"/>
            <a:ext cx="82296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0" y="285840"/>
            <a:ext cx="914400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9680">
              <a:lnSpc>
                <a:spcPct val="80000"/>
              </a:lnSpc>
              <a:spcBef>
                <a:spcPts val="924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</a:rPr>
              <a:t> </a:t>
            </a:r>
            <a:r>
              <a:rPr b="1" lang="ru-RU" sz="3700" spc="-1" strike="noStrike">
                <a:solidFill>
                  <a:srgbClr val="c00000"/>
                </a:solidFill>
                <a:latin typeface="Arial Narrow"/>
              </a:rPr>
              <a:t>В дыме  сигарет содержится более 30 отравляющих организм человека веществ: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никотин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аммиак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угарный  газ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синильная  кислота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пиридин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метанол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формальдегид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 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радиоактивные вещества: полоний, свинец, висмут, смолы, деготь и другие.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"/>
          <p:cNvSpPr/>
          <p:nvPr/>
        </p:nvSpPr>
        <p:spPr>
          <a:xfrm>
            <a:off x="0" y="1428840"/>
            <a:ext cx="8686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 Курение загрязняет лёгк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Курение затрудняет проникновение  кислорода в организ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 Курение затрудняет нормальную работу сердца, оно быстро изнашива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От курения желтеют зуб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 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появляется дурной запах  во рт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Каждая сигарета отнимает от 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 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до 15 минут жи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6572160" y="4429080"/>
            <a:ext cx="2286000" cy="21448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457200" y="-825480"/>
            <a:ext cx="82296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214200" y="2928960"/>
            <a:ext cx="4143600" cy="3571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4714920" y="2928960"/>
            <a:ext cx="4125960" cy="3517920"/>
          </a:xfrm>
          <a:prstGeom prst="rect">
            <a:avLst/>
          </a:prstGeom>
          <a:ln w="0">
            <a:noFill/>
          </a:ln>
        </p:spPr>
      </p:pic>
      <p:sp>
        <p:nvSpPr>
          <p:cNvPr id="392" name="Line 4"/>
          <p:cNvSpPr/>
          <p:nvPr/>
        </p:nvSpPr>
        <p:spPr>
          <a:xfrm flipH="1">
            <a:off x="4497120" y="1357200"/>
            <a:ext cx="4680" cy="5216760"/>
          </a:xfrm>
          <a:prstGeom prst="line">
            <a:avLst/>
          </a:prstGeom>
          <a:ln cap="sq" w="633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0" y="13572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Лёгкие здоровог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челове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5294520" y="1357200"/>
            <a:ext cx="312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Лёгк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курильщ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42920" y="285840"/>
            <a:ext cx="908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Больше всего от курения страдают лёгкие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-244440" y="-30240"/>
            <a:ext cx="9948960" cy="14572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4"/>
          <p:cNvSpPr/>
          <p:nvPr/>
        </p:nvSpPr>
        <p:spPr>
          <a:xfrm>
            <a:off x="250920" y="119700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и пассивном курении люди получают дозу так называемого бокового дыма. При этом при пассивном и активном курении в организм попадают практически одни и те же вещества, нахождение (особенно долговременное) в клубах дыма рядом с курящими людьми может привести к тем же неприятным последствиям, что и активное кур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324000" y="299736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ассивное курение может приводить к усугублению аллергии, всевозможным ЛОР-патологиям, патологиям сердца и сосудов, развитию хронической болезни легких и увеличению риска онкологических заболеваний. Чаще всего злокачественные образования локализуются в молочных железах, легких и почках. Чтобы избежать таких последствий, необходимо избегать нахождения в курящих компаниях и прокуренных помещени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7:50:33Z</dcterms:created>
  <dc:creator>к</dc:creator>
  <dc:description/>
  <dc:language>en-US</dc:language>
  <cp:lastModifiedBy>Пользователь Windows</cp:lastModifiedBy>
  <cp:lastPrinted>2013-11-12T06:06:46Z</cp:lastPrinted>
  <dcterms:modified xsi:type="dcterms:W3CDTF">2021-10-28T07:04:16Z</dcterms:modified>
  <cp:revision>71</cp:revision>
  <dc:subject/>
  <dc:title>О  вреде курения</dc:title>
</cp:coreProperties>
</file>